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635-A869-494A-B8AB-CF056F8B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19F-9178-43E3-9C2C-4289625B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886C-418B-44B3-B551-3045E896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AAD4-EAED-4925-97C7-2E6933B9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8BE9-1F70-4A83-A922-4530281F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FE41-B7DB-449C-A08E-820DF677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6D6B-BA80-4F2C-9079-FE79874B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8D39-7F74-42D0-B640-0E4055EE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3AED-C94D-455C-B2A1-842FC53E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89B5-6F0C-464F-93D1-0E7DACA2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FB7E-0B23-4916-BD3D-FD809F11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676A-A8C6-4A93-9C17-8450FAE0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9C3A-AD67-41BD-B5B4-68C1A9CD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31A3-2870-4A78-9B99-D87C4415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5838-3371-4242-AAFE-53B08348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8EED-8F60-4F07-9F8F-3873AB20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74BD-CDE4-4444-93A3-D51C2073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D0D25-3F63-45A3-9E86-AA0C1FC3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28FD1-224B-4500-826C-77E47F0E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D2CFE-FD98-44CC-858C-D158A642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BF195-4707-4005-98B6-78089851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281C5-5DA1-4F6A-97E3-F9C8E2E5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CE4-D289-4499-8EB0-859EEED0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6C589-0753-4A60-B660-2A95D2D9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DE47E-401F-4D03-90F0-322A401F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16566-C58A-4AD3-8339-574C6696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1D7AB-67EA-4060-8272-FA73C98F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06D64-B96D-4A5A-ABF5-B0D9ADA5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4B2AB-BE1E-46C0-8DDD-7FEB8C23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C39C9-D5ED-4ACA-B0E0-DC944B5E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F06E6-CFCB-4065-8DAB-40988D61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3B18E-1E42-494A-828A-F7443229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FB49E-2119-413F-9593-478B1CAE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ACAD-C2A3-42A9-A412-87E63CD0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65833-E747-42C2-BDF3-B0E4623C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B234F-B083-43C3-8396-2CBE39B8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93200-E1D5-4390-8637-92158D3D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255DB-CCE1-4954-9FB5-87F05BAC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06648-AFE5-4C80-B8BC-4163B55C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93FE1-97A1-4588-B300-182654FC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D51F8-B31A-4246-82DF-B9CEAF72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B2280-ABD9-4FE3-9023-ED8B96F8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47EC5-B9C6-4AC7-8CB6-D4C53731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6CAC-9DD9-4264-9D97-F82BC9AC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82CF-003C-48BC-9044-C6024EFE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6BB-5EBD-412C-8D50-29A5CCF5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55EA-E420-4DF1-8457-71057E63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BCA6-D115-49B5-8A45-AFAFC5A0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8895-1EBD-4FC9-AEA5-6CC8B7964BF1}" type="slidenum">
              <a:rPr b="0" lang="es-PE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CFF3-77FF-4AA5-880F-DCFA83840F68}" type="slidenum">
              <a:rPr b="0" lang="es-PE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6E5A-293E-4F73-8554-1BBF7A0FA2C7}" type="slidenum">
              <a:rPr b="0" lang="es-PE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0070-095A-46FB-A38D-0D0D03BA2FBC}" type="slidenum">
              <a:rPr b="0" lang="es-PE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566640" y="1279440"/>
            <a:ext cx="79376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500" spc="-1" strike="noStrike">
                <a:solidFill>
                  <a:srgbClr val="04617b"/>
                </a:solidFill>
                <a:latin typeface="Calibri"/>
              </a:rPr>
              <a:t>EL SUJETO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La estructura de la oración está conformada por dos elementos fundamentales, que son: </a:t>
            </a:r>
            <a:r>
              <a:rPr b="1" lang="es-PE" sz="2600" spc="-1" strike="noStrike">
                <a:solidFill>
                  <a:srgbClr val="000000"/>
                </a:solidFill>
                <a:latin typeface="Constantia"/>
              </a:rPr>
              <a:t>sujeto</a:t>
            </a: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 y </a:t>
            </a:r>
            <a:r>
              <a:rPr b="1" lang="es-PE" sz="2600" spc="-1" strike="noStrike">
                <a:solidFill>
                  <a:srgbClr val="000000"/>
                </a:solidFill>
                <a:latin typeface="Constantia"/>
              </a:rPr>
              <a:t>predicado</a:t>
            </a: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PE" sz="2600" spc="-1" strike="noStrike">
                <a:solidFill>
                  <a:srgbClr val="000000"/>
                </a:solidFill>
                <a:latin typeface="Constantia"/>
              </a:rPr>
              <a:t>sujeto</a:t>
            </a: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 es la parte de la oración que nos indica de quién se habl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PE" sz="2600" spc="-1" strike="noStrike">
                <a:solidFill>
                  <a:srgbClr val="000000"/>
                </a:solidFill>
                <a:latin typeface="Constantia"/>
              </a:rPr>
              <a:t>predicado</a:t>
            </a: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 es la parte que se relaciona con lo que se dice del suje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0000"/>
                </a:solidFill>
                <a:latin typeface="Constantia"/>
              </a:rPr>
              <a:t>Mi hermano</a:t>
            </a:r>
            <a:r>
              <a:rPr b="1" lang="es-PE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PE" sz="3200" spc="-1" strike="noStrike">
                <a:solidFill>
                  <a:srgbClr val="0f6fc6"/>
                </a:solidFill>
                <a:latin typeface="Constantia"/>
              </a:rPr>
              <a:t>juega a la pelo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5000" spc="-1" strike="noStrike">
                <a:solidFill>
                  <a:srgbClr val="04617b"/>
                </a:solidFill>
                <a:latin typeface="Calibri"/>
              </a:rPr>
              <a:t>Estructura del sujeto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6868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Núcleo del sujeto: Es un sustantiv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Modificador  directo: Puede ser un artículo o sustantiv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ff0000"/>
                </a:solidFill>
                <a:latin typeface="Constantia"/>
              </a:rPr>
              <a:t>El</a:t>
            </a:r>
            <a:r>
              <a:rPr b="1" lang="es-PE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gato mue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Modificador Indirecto: Va acompañado de una preposició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El carro </a:t>
            </a:r>
            <a:r>
              <a:rPr b="1" lang="es-PE" sz="2600" spc="-1" strike="noStrike">
                <a:solidFill>
                  <a:srgbClr val="7030a0"/>
                </a:solidFill>
                <a:latin typeface="Constantia"/>
              </a:rPr>
              <a:t>de mi papá </a:t>
            </a: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es viej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Aposición: Es la explicación de lo antes mencion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Andrés  avelino Cáceres, </a:t>
            </a:r>
            <a:r>
              <a:rPr b="1" lang="es-PE" sz="2600" spc="-1" strike="noStrike">
                <a:solidFill>
                  <a:srgbClr val="0b5395"/>
                </a:solidFill>
                <a:latin typeface="Constantia"/>
              </a:rPr>
              <a:t>el brujo de los Andes</a:t>
            </a:r>
            <a:r>
              <a:rPr b="0" lang="es-PE" sz="2600" spc="-1" strike="noStrike">
                <a:solidFill>
                  <a:srgbClr val="000000"/>
                </a:solidFill>
                <a:latin typeface="Constantia"/>
              </a:rPr>
              <a:t>, fue hábi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5000" spc="-1" strike="noStrike">
                <a:solidFill>
                  <a:srgbClr val="04617b"/>
                </a:solidFill>
                <a:latin typeface="Calibri"/>
              </a:rPr>
              <a:t>Estructura del predicado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85840" y="1935000"/>
            <a:ext cx="885816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Constantia"/>
              </a:rPr>
              <a:t>Núcleo del predicado: Es un verb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Constantia"/>
              </a:rPr>
              <a:t>Objeto  directo: Utiliza la pregunta ¿Qué? o pronombre l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Constantia"/>
              </a:rPr>
              <a:t>Miguel come </a:t>
            </a:r>
            <a:r>
              <a:rPr b="1" lang="es-PE" sz="2800" spc="-1" strike="noStrike">
                <a:solidFill>
                  <a:srgbClr val="0c9b74"/>
                </a:solidFill>
                <a:latin typeface="Constantia"/>
              </a:rPr>
              <a:t>cevich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Constantia"/>
              </a:rPr>
              <a:t>Objeto Indirecto: Utiliza la pregunta ¿ A quién? o pronombre le o l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Constantia"/>
              </a:rPr>
              <a:t>La profesora llamó la atención </a:t>
            </a:r>
            <a:r>
              <a:rPr b="1" lang="es-PE" sz="2800" spc="-1" strike="noStrike">
                <a:solidFill>
                  <a:srgbClr val="0b5395"/>
                </a:solidFill>
                <a:latin typeface="Constantia"/>
              </a:rPr>
              <a:t>a Juan.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7:00:00Z</dcterms:created>
  <dc:creator>Computo</dc:creator>
  <dc:description/>
  <dc:language>en-US</dc:language>
  <cp:lastModifiedBy>Computo</cp:lastModifiedBy>
  <dcterms:modified xsi:type="dcterms:W3CDTF">2009-11-10T20:53:39Z</dcterms:modified>
  <cp:revision>4</cp:revision>
  <dc:subject/>
  <dc:title>LA ORACIÓN: SUJETO Y PREDICADO</dc:title>
</cp:coreProperties>
</file>